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Артур" initials="А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<Relationship Id="rId13" Type="http://schemas.openxmlformats.org/officeDocument/2006/relationships/commentAuthors" Target="commentAuthors.xml"/>
</Relationships>
</file>

<file path=ppt/comments/comment7.xml><?xml version="1.0" encoding="utf-8"?>
<p:cmLst xmlns:p="http://schemas.openxmlformats.org/presentationml/2006/main">
  <p:cm authorId="0" dt="2008-03-09T22:02:55.109000000" idx="1">
    <p:pos x="5721" y="624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4E61-FDDA-4760-9541-1AE56A210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CA7D-970C-4E3D-934A-A1FE5324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3DE2-1353-4B1C-AAB2-B2D537333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D338-71CD-4D53-BB65-1897ACE2C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9C70-522C-4181-AC81-2C1B1DBE1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9560-7D90-4C3F-AE83-3ADDDE0A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A7C2-F41B-4A0F-B5C5-F32EB9AE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072A-147F-490B-985C-E6D4BFA7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55D1-C075-4043-A0B7-4E945BD1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224B-1239-4490-9476-2E0DB68D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21EA-EFC1-47B5-B59F-DA5020F3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EC9A-DCC2-4E23-8424-CA05E196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DD73-E970-4CF6-B527-55C72D02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F1E6-A536-4A58-96F2-C2CED47E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066A-61E7-41CA-A29F-CD0640C7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6068-8BD0-40F4-A2E4-7A137333E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B171-EB5A-4FE1-865A-0D3C78ECF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E81E-AF06-4F35-839C-348C80C9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F36F-EFFF-43A4-968A-EC3CD123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540A-20D2-48E6-9D21-4C017D78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6921-9FFC-4E06-8A89-57722AE4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ACE8-2171-492D-AC14-F20A873C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40BD-18B3-4092-AED2-B9F0A316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0BCA-45E1-45B1-A014-644C115B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1C31-AEE6-4FA8-9A7A-E0A927580AAF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C5FC-A149-4FBF-9A33-C87E6BCB10CD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762120"/>
            <a:ext cx="81532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30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>
                        <a:alpha val="68235"/>
                      </a:srgbClr>
                    </a:gs>
                    <a:gs pos="100000">
                      <a:srgbClr val="ff8200">
                        <a:alpha val="22352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вый закон термодинамики. 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>
                      <a:alpha val="68235"/>
                    </a:srgbClr>
                  </a:gs>
                  <a:gs pos="100000">
                    <a:srgbClr val="ff8200">
                      <a:alpha val="22352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057400" y="4191120"/>
            <a:ext cx="5410080" cy="4038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805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ffff99">
                        <a:alpha val="16078"/>
                      </a:srgbClr>
                    </a:gs>
                  </a:gsLst>
                  <a:lin ang="5400000"/>
                </a:gradFill>
                <a:latin typeface="Arial"/>
              </a:rPr>
              <a:t>Презентация учителя МОУ «СОШ №6»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ffff99">
                      <a:alpha val="16078"/>
                    </a:srgbClr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ffff99">
                        <a:alpha val="16078"/>
                      </a:srgbClr>
                    </a:gs>
                  </a:gsLst>
                  <a:lin ang="5400000"/>
                </a:gradFill>
                <a:latin typeface="Arial"/>
              </a:rPr>
              <a:t>для учащихся 10-го класса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ffff99">
                      <a:alpha val="16078"/>
                    </a:srgbClr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5442120"/>
            <a:ext cx="33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99"/>
                </a:solidFill>
                <a:latin typeface="Verdana"/>
              </a:rPr>
              <a:t>Симонова А. М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Verdana"/>
              </a:rPr>
              <a:t>Цель презентации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19112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e5a781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66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Verdana"/>
              </a:rPr>
              <a:t>Применить физический закон к различным процессам  на основе имеющихся знани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66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Verdana"/>
              </a:rPr>
              <a:t>Работать над формированием сравнивать явления, делать выводы и обобщения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spcBef>
                <a:spcPts val="799"/>
              </a:spcBef>
              <a:buClr>
                <a:srgbClr val="0066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Verdana"/>
              </a:rPr>
              <a:t>Грамотное изложение материала</a:t>
            </a:r>
            <a:r>
              <a:rPr b="0" i="1" lang="en-US" sz="3200" spc="-1" strike="noStrike">
                <a:solidFill>
                  <a:srgbClr val="006666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6" dur="2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800100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Verdana"/>
              </a:rPr>
              <a:t>Закон сохранения и превращения энергии, распространённый на тепловые явления, называется </a:t>
            </a:r>
            <a:r>
              <a:rPr b="1" i="1" lang="en-US" sz="2400" spc="-1" strike="noStrike" u="sng">
                <a:solidFill>
                  <a:srgbClr val="006666"/>
                </a:solidFill>
                <a:uFillTx/>
                <a:latin typeface="Verdana"/>
              </a:rPr>
              <a:t>первым законом термодинамики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99720"/>
            <a:ext cx="82296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Изменение внутренней энергии системы при переходе её из одного состояния в другое равно сумме работы внешних сил и количества теплоты, переданного системе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                       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Verdana"/>
                <a:ea typeface="Arial"/>
              </a:rPr>
              <a:t>∆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Verdana"/>
                <a:ea typeface="Arial"/>
              </a:rPr>
              <a:t>U=A+Q</a:t>
            </a:r>
            <a:r>
              <a:rPr b="1" lang="ru-RU" sz="2400" spc="-1" strike="noStrike" u="sng">
                <a:solidFill>
                  <a:srgbClr val="006699"/>
                </a:solidFill>
                <a:uFillTx/>
                <a:latin typeface="Verdana"/>
                <a:ea typeface="Arial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  <a:ea typeface="Arial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Если система замкнута работа внешней силы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                                 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А=0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теплообмен с окружающими телами не происходит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                                    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Q=0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внутренняя энергия изолированной системы сохраняетс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                               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U</a:t>
            </a:r>
            <a:r>
              <a:rPr b="1" lang="en-US" sz="900" spc="-1" strike="noStrike">
                <a:solidFill>
                  <a:srgbClr val="006699"/>
                </a:solidFill>
                <a:latin typeface="Verdana"/>
                <a:ea typeface="Arial"/>
              </a:rPr>
              <a:t>1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=U</a:t>
            </a:r>
            <a:r>
              <a:rPr b="1" lang="en-US" sz="1000" spc="-1" strike="noStrike">
                <a:solidFill>
                  <a:srgbClr val="006699"/>
                </a:solidFill>
                <a:latin typeface="Verdana"/>
                <a:ea typeface="Arial"/>
              </a:rPr>
              <a:t>2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700"/>
                            </p:stCondLst>
                            <p:childTnLst>
                              <p:par>
                                <p:cTn id="5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700"/>
                            </p:stCondLst>
                            <p:childTnLst>
                              <p:par>
                                <p:cTn id="6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700"/>
                            </p:stCondLst>
                            <p:childTnLst>
                              <p:par>
                                <p:cTn id="7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700"/>
                            </p:stCondLst>
                            <p:childTnLst>
                              <p:par>
                                <p:cTn id="8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2700"/>
                            </p:stCondLst>
                            <p:childTnLst>
                              <p:par>
                                <p:cTn id="8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4700"/>
                            </p:stCondLst>
                            <p:childTnLst>
                              <p:par>
                                <p:cTn id="9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6700"/>
                            </p:stCondLst>
                            <p:childTnLst>
                              <p:par>
                                <p:cTn id="10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8700"/>
                            </p:stCondLst>
                            <p:childTnLst>
                              <p:par>
                                <p:cTn id="11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6666"/>
                </a:solidFill>
                <a:latin typeface="Verdana"/>
              </a:rPr>
              <a:t>Если учитывать различие только в знаках между работой внешней и внутренней сил    </a:t>
            </a:r>
            <a:r>
              <a:rPr b="1" lang="ru-RU" sz="2700" spc="-1" strike="noStrike">
                <a:solidFill>
                  <a:srgbClr val="006666"/>
                </a:solidFill>
                <a:latin typeface="Verdana"/>
              </a:rPr>
              <a:t>А=-А</a:t>
            </a:r>
            <a:r>
              <a:rPr b="1" lang="en-US" sz="2700" spc="-1" strike="noStrike">
                <a:solidFill>
                  <a:srgbClr val="006666"/>
                </a:solidFill>
                <a:latin typeface="Verdana"/>
              </a:rPr>
              <a:t>`</a:t>
            </a:r>
            <a:r>
              <a:rPr b="1" lang="ru-RU" sz="2700" spc="-1" strike="noStrike">
                <a:solidFill>
                  <a:srgbClr val="006666"/>
                </a:solidFill>
                <a:latin typeface="Verdana"/>
              </a:rPr>
              <a:t>,</a:t>
            </a:r>
            <a:endParaRPr b="0" lang="en-US" sz="27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лучим первый закон термодинамики в другом виде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600" spc="-1" strike="noStrike" u="sng">
                <a:solidFill>
                  <a:srgbClr val="006699"/>
                </a:solidFill>
                <a:uFillTx/>
                <a:latin typeface="Verdana"/>
              </a:rPr>
              <a:t>Q=</a:t>
            </a:r>
            <a:r>
              <a:rPr b="1" lang="en-US" sz="3600" spc="-1" strike="noStrike" u="sng">
                <a:solidFill>
                  <a:srgbClr val="006699"/>
                </a:solidFill>
                <a:uFillTx/>
                <a:latin typeface="Verdana"/>
                <a:ea typeface="Arial"/>
              </a:rPr>
              <a:t>∆U+A`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  <a:ea typeface="Arial"/>
              </a:rPr>
              <a:t>Количество теплоты, переданное системе, идёт на изменение её внутренней энергии и на совершение системой работы над внешними силам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  <a:ea typeface="Arial"/>
              </a:rPr>
              <a:t>Из первого закона термодинамики вытекает важное следстви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7000"/>
                            </p:stCondLst>
                            <p:childTnLst>
                              <p:par>
                                <p:cTn id="15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500" autoRev="1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6" dur="500" autoRev="1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7" dur="500" autoRev="1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609120"/>
            <a:ext cx="82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Verdana"/>
              </a:rPr>
              <a:t>Невозможность вечного двигателя!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499840"/>
            <a:ext cx="8229600" cy="33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Вечный двигатель—устройство, способное совершать неограниченное количество работы без затрат топлива или каких-либо других материалов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Если к системе не поступает теплота (</a:t>
            </a: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Q=0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)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то работа совершается только за счёт убыли внутренней энергии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A`=-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Arial"/>
              </a:rPr>
              <a:t>∆U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После того как запас энергии окажется исчерпанным , двигатель перестанет работать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7000"/>
                            </p:stCondLst>
                            <p:childTnLst>
                              <p:par>
                                <p:cTn id="17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9000"/>
                            </p:stCondLst>
                            <p:childTnLst>
                              <p:par>
                                <p:cTn id="17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Verdana"/>
              </a:rPr>
              <a:t>Первый закон термодинамики можно применить к газовым законам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ри изохорном процессе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V=const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поэтому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A`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=0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Тогда изменение внутренней энергии равно количеству теплоты, переданной систем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                                                         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  <a:ea typeface="Arial"/>
              </a:rPr>
              <a:t>∆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  <a:ea typeface="Arial"/>
              </a:rPr>
              <a:t>U=Q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  <a:ea typeface="Arial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Если газ нагревается , то его внутренняя энергия увеличивается, а при охлаждении газа—уменьшается 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2.     При изобарном процессе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p=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const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и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                                                        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Q=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  <a:ea typeface="Arial"/>
              </a:rPr>
              <a:t>∆U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+A`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Переданное газу количество теплоты идёт на изменение его внутренней энергии и  на совершение им работы при постоянном давлени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2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5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3.При изотермическом процессе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Т=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const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внутренняя           энергия газа не меняется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∆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U=0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, переданное газу количество теплоты идёт на совершение работы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                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                   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Q=A`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4.При адиабатном процессе, когда система не обменивается теплотой с окружающей средой,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Q=0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изменение внутренней энергии происходит только за счёт совершения работы: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                                                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∆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U=A`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                             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1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1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1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33"/>
                </a:solidFill>
                <a:latin typeface="Verdana"/>
              </a:rPr>
              <a:t>Почему внутренняя энергия тела не бесконечна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33"/>
                </a:solidFill>
                <a:latin typeface="Verdana"/>
              </a:rPr>
              <a:t>Как меняется температура тела при адиабатном расширении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33"/>
                </a:solidFill>
                <a:latin typeface="Verdana"/>
              </a:rPr>
              <a:t>Для получения газированной воды через воду пропускают сжатый углекислый газ. Почему температура воды при этом понижается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28600" y="304920"/>
            <a:ext cx="8534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опросы на проверку знани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8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ртур</cp:lastModifiedBy>
  <dcterms:modified xsi:type="dcterms:W3CDTF">2008-02-05T18:12:3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